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5508-1F2D-4C37-9664-60241232A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14D6-060F-4CCC-B701-280166FD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AFB1-BBE8-406D-96F9-2936EC6A4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69AA-F97C-4262-88AA-E23C8C849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D841-526E-4A34-8855-7E3C8E6C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6314-53DF-4DC5-A887-492483AC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01F2-FC77-4861-8717-9A815AD8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75DC-8ED6-4F7C-830A-B6638EFE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0101-21D8-4E23-9614-3C4C6DC1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BEE7-72FE-48E9-98D9-EB145F98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7692-FAB2-4EEB-8ECF-3CCD2567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547E-ADAA-4D11-B04E-2FC41B14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84E6-9DC1-4299-8309-C14349A85C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8"/>
          <p:cNvSpPr/>
          <p:nvPr/>
        </p:nvSpPr>
        <p:spPr>
          <a:xfrm>
            <a:off x="5033880" y="448776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6"/>
          <p:cNvSpPr/>
          <p:nvPr/>
        </p:nvSpPr>
        <p:spPr>
          <a:xfrm>
            <a:off x="3695760" y="2111400"/>
            <a:ext cx="275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4"/>
          <p:cNvSpPr/>
          <p:nvPr/>
        </p:nvSpPr>
        <p:spPr>
          <a:xfrm>
            <a:off x="3695760" y="2120760"/>
            <a:ext cx="275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8"/>
          <p:cNvSpPr/>
          <p:nvPr/>
        </p:nvSpPr>
        <p:spPr>
          <a:xfrm>
            <a:off x="5033880" y="448776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6"/>
          <p:cNvSpPr/>
          <p:nvPr/>
        </p:nvSpPr>
        <p:spPr>
          <a:xfrm>
            <a:off x="3714840" y="2168640"/>
            <a:ext cx="275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9"/>
          <p:cNvSpPr/>
          <p:nvPr/>
        </p:nvSpPr>
        <p:spPr>
          <a:xfrm>
            <a:off x="5033880" y="448776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6"/>
          <p:cNvSpPr/>
          <p:nvPr/>
        </p:nvSpPr>
        <p:spPr>
          <a:xfrm>
            <a:off x="3705120" y="2149560"/>
            <a:ext cx="275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9"/>
          <p:cNvSpPr/>
          <p:nvPr/>
        </p:nvSpPr>
        <p:spPr>
          <a:xfrm>
            <a:off x="5052960" y="449748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6"/>
          <p:cNvSpPr/>
          <p:nvPr/>
        </p:nvSpPr>
        <p:spPr>
          <a:xfrm>
            <a:off x="3733920" y="2120760"/>
            <a:ext cx="275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5052960" y="448776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08T15:37:29Z</dcterms:created>
  <dc:creator>Microsoft Office User</dc:creator>
  <dc:description/>
  <dc:language>en-US</dc:language>
  <cp:lastModifiedBy>Linda Bigirindavyi</cp:lastModifiedBy>
  <dcterms:modified xsi:type="dcterms:W3CDTF">2017-07-31T22:59:55Z</dcterms:modified>
  <cp:revision>8</cp:revision>
  <dc:subject/>
  <dc:title>PowerPoint Presentation</dc:title>
</cp:coreProperties>
</file>