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A20-388F-49A1-AB81-EA8D2B49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71A-44E2-4B2E-9163-3E36CD81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DCC-E480-494F-B20F-4B6CB707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168-FEB6-4AF4-8C9B-8E909E92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B1C-6B98-4A0A-B603-CF979DE1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1E6-DB1C-44C3-BD4C-16C06FCA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0A5-874C-4575-888C-CDB74EA9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C95-C5CC-45BA-8B49-59164AF6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9565-0CD8-4A5F-85DD-F59B4874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CF1-EE57-4ABD-8192-42F871B2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3EA-815A-49AE-A218-45B1468F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D6E-512A-42FE-A3A5-9B04CECF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F927-A35D-4DF3-A240-7220D08A9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3695760" y="211140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369576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6"/>
          <p:cNvSpPr/>
          <p:nvPr/>
        </p:nvSpPr>
        <p:spPr>
          <a:xfrm>
            <a:off x="3714840" y="216864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9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3705120" y="2149560"/>
            <a:ext cx="275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9"/>
          <p:cNvSpPr/>
          <p:nvPr/>
        </p:nvSpPr>
        <p:spPr>
          <a:xfrm>
            <a:off x="5052960" y="449748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373392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505296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8T15:37:29Z</dcterms:created>
  <dc:creator>Microsoft Office User</dc:creator>
  <dc:description/>
  <dc:language>en-US</dc:language>
  <cp:lastModifiedBy>Linda Bigirindavyi</cp:lastModifiedBy>
  <dcterms:modified xsi:type="dcterms:W3CDTF">2017-07-31T22:59:55Z</dcterms:modified>
  <cp:revision>8</cp:revision>
  <dc:subject/>
  <dc:title>PowerPoint Presentation</dc:title>
</cp:coreProperties>
</file>