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842-DCCE-40D2-A5CE-C1E9400D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4B3-4641-43B8-8407-81F9A4A6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D0B-3717-4AC4-990A-81674065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860-B126-4557-8859-B8CB82F5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7AF-47FC-4206-94B3-56417A3D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7AA-3AA3-4454-8054-ECC9D5E5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857-142D-4B81-AB58-2C0E3AB6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279-B4B0-44E1-B6DF-6B4FB68F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27B-D798-4E9A-9DE6-C026F8F5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E71-8209-4E88-AE34-9AFBBE44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2A9-94EB-414D-834C-5C9ED3E6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9BB-20DD-419B-A018-EB8503F8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4D55-B84E-4490-9DA3-B1761C633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3695760" y="211140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369576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3714840" y="216864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9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3705120" y="2149560"/>
            <a:ext cx="275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9"/>
          <p:cNvSpPr/>
          <p:nvPr/>
        </p:nvSpPr>
        <p:spPr>
          <a:xfrm>
            <a:off x="5052960" y="44974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373392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505296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8T15:37:29Z</dcterms:created>
  <dc:creator>Microsoft Office User</dc:creator>
  <dc:description/>
  <dc:language>en-US</dc:language>
  <cp:lastModifiedBy>Linda Bigirindavyi</cp:lastModifiedBy>
  <dcterms:modified xsi:type="dcterms:W3CDTF">2017-07-31T22:59:55Z</dcterms:modified>
  <cp:revision>8</cp:revision>
  <dc:subject/>
  <dc:title>PowerPoint Presentation</dc:title>
</cp:coreProperties>
</file>