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A00-C645-4BAA-866B-A881AD5C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552-5765-44D7-83F8-8DF164C1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076-56B0-4ECE-BA6F-60DA5CDA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370-A535-4879-94C3-31A9B5C0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B56-561A-4F97-BBD7-8C55FFB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667-E20E-45A8-B38A-9FAC3810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9C9-D478-408C-9516-FE4A385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7CF-417E-4C39-A9FC-CCA4081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216-A63A-43DB-8423-CBDC88CD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296-2C7E-41A4-820A-7950511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EC1-E70F-42E8-8216-D31FD84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E78-3A3F-4D8C-B301-A699801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68F-3A56-4135-B308-F08280276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3695760" y="211140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369576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8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3714840" y="216864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9"/>
          <p:cNvSpPr/>
          <p:nvPr/>
        </p:nvSpPr>
        <p:spPr>
          <a:xfrm>
            <a:off x="503388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3705120" y="2149560"/>
            <a:ext cx="275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9"/>
          <p:cNvSpPr/>
          <p:nvPr/>
        </p:nvSpPr>
        <p:spPr>
          <a:xfrm>
            <a:off x="5052960" y="44974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33920" y="2120760"/>
            <a:ext cx="275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5052960" y="448776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8T15:37:29Z</dcterms:created>
  <dc:creator>Microsoft Office User</dc:creator>
  <dc:description/>
  <dc:language>en-US</dc:language>
  <cp:lastModifiedBy>Linda Bigirindavyi</cp:lastModifiedBy>
  <dcterms:modified xsi:type="dcterms:W3CDTF">2017-07-31T22:59:55Z</dcterms:modified>
  <cp:revision>8</cp:revision>
  <dc:subject/>
  <dc:title>PowerPoint Presentation</dc:title>
</cp:coreProperties>
</file>